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BE2-973A-4FD6-B886-929CA786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AE5-8D6C-40A5-A9ED-06CCC2B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9CA-3FEC-49D9-9783-6EE9A6BD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FA9-5D37-4857-9FBC-EF04CBD4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0090-CC4E-42DB-8F00-D6A9B47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DF1B-3A21-47F7-AE27-5DB84D8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AC0-5F79-4DEE-B691-67C3B2D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E6C1-9852-48E3-9128-6C6FA3E0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DB99-D877-4E8F-8C30-91260B99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2672-D0F9-47BB-8D29-C515F2CD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9D6-75CD-417D-8466-C086C24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B6D-1362-423C-B02D-963D494D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6CF-936B-42FC-BC18-A8036BCF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7BE6-EFE7-4183-802C-882EE95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F54-DF27-44DE-ACD1-A938A79A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A68-8683-4BB6-A975-E753F0B8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6F0A-AA2C-40A4-86F5-8CBE30D0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8EAC-70B9-4929-B34E-9F2CA968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8275-A69A-4D61-BEC3-31432BF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F811-13E8-4A68-9DE1-904AF8F4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4A12-1B30-43A3-B296-0FD1F9D8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C595-1177-4311-9D37-44AF9A3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BA3-E64F-4F9A-8ABF-EAA3361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5FEE-2D4F-4685-9ABB-603052EB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9B3C-B09E-4819-96E4-82A7C18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DBBE-F80A-4869-8099-826197A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C84A-4AD4-4FC5-BE20-CD9550D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1508-D4CC-4048-A696-7927178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32B65-0445-498A-B3A8-AD1D913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D068-0FB8-4FC7-BAE9-0203A0AC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3F42-40DF-4F4E-89C9-FD3F7999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8B21-3877-400E-B4C9-494B275D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8E52-A111-4A45-992B-F8CDEA5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C83-FD10-4A1B-A1B3-AF7FE63C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6F5C-4572-4AA1-B346-5716D6FA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50CC-5366-48F4-974B-70F3C853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095B9-066A-4DFD-B3DE-0E0A1175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B1B5-562B-4B54-8324-8CBE4F4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9164-0FE4-4D44-8BF1-8961CFC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5394-A762-42DD-95E4-A5A00C9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B4E2-FD31-4F2A-A63D-553A3429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0C89-BDDC-438B-8476-EFF2920B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AF81-130E-4708-9C1D-9BFD24F1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0651-36BF-4741-B400-9EB22F6F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79B-4518-4C55-BB76-36A1BB7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8468-D23C-40F4-8D46-AAACAB74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4816-CE86-47DC-87EE-AE61BECA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3013-29E9-4CF3-965C-E3C513B7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B6A6-8149-4F63-BE14-BFC18FAA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CE37-E9AC-4DD1-BD50-1FC6F8D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BFBCD-FAD5-4F9A-83E6-E71E363C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45C9-7187-4EFA-8099-6FDE1705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076B-EC00-4C0D-8A34-982513B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6C47-7DA3-49B2-AA62-62AC8FD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2DAF-4FCE-4E28-99A1-9344560E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0AB-1F49-41EE-B527-C816C2BF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7723-86AE-42D8-9AA6-348F29DC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24A0-2E49-4175-8374-DCB8079B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F96E-70DE-42A8-8F24-A8C7DB62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3DD28-7FD0-4898-B8DB-86C6416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C601-69C3-4164-8715-A94559BC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6BBAD-AB6A-47F6-8916-1DB3BC4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57E4-7EDB-4D0A-835B-57971080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498D-9B74-46C5-BB96-6335D2B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7E0C3-2D05-4DB5-8D18-14EF440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7183-6788-4D8D-8E4A-D653F861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456-D6F8-4B00-ACAF-6E66874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0C7C-0048-4A45-B9C0-ABFF726F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12BEE-E972-43D8-BE4E-2088BDEC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5648-6A9F-4366-8F7E-A24F34E5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089E-1366-4609-8FBF-DF13805C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40024-2A07-4809-91E8-E5065068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037B9-98F0-459D-B232-F127DD86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DE1B8-2CE2-42EA-AE2B-C7629EE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716D-743D-4A78-9BCB-F0CDF80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83CC-5F74-4A82-8A3E-6B124BA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62EF-E32C-442A-96BE-25DAC1D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682-35A4-4B36-96EB-40EA5C9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3057-E101-4C07-B09A-9E8DE76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E8E08-0447-404F-9E92-97D7D27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E46E-E32D-4C88-93F2-FC9F43F7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A155F-4745-4967-AC1C-9B510756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0C7F-8DC0-4CEE-B1FF-5ACBB6F3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4A2-70F1-4C24-8A72-D0A06EB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D206-FF31-49F9-BDBA-B058C946F0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4AD2-8FC2-4C19-B13C-16FEF1AB20D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F9BF-D401-480D-853B-97C6B1DAC2E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C923-6216-4C61-88AD-983ADD8745A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9E4B-58F9-417B-ADB5-DD26170DC0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7BF-EC07-475F-8767-27C0C13C2E1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595-D495-4898-86E7-9EBEA923295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jupiterimages.com/common/detail/73/93/2320937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agmatism.org/american/puritanmigrati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stro.temple.edu/~gurwin/usatwarsyb2005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discuss the reasons for the Puritan’s settlement in America and to examine their w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1295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w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of the following freedoms would you give up if you had to choose one? 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Spee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* P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* Relig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* Trial by 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7" descr="232093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201840"/>
            <a:ext cx="4570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Accused witches experiencing deliverance by prayer"/>
          <p:cNvPicPr/>
          <p:nvPr/>
        </p:nvPicPr>
        <p:blipFill>
          <a:blip r:embed="rId1"/>
          <a:stretch/>
        </p:blipFill>
        <p:spPr>
          <a:xfrm>
            <a:off x="0" y="0"/>
            <a:ext cx="4570560" cy="6013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Victims of witchcraft persecution"/>
          <p:cNvPicPr/>
          <p:nvPr/>
        </p:nvPicPr>
        <p:blipFill>
          <a:blip r:embed="rId2"/>
          <a:stretch/>
        </p:blipFill>
        <p:spPr>
          <a:xfrm>
            <a:off x="4573440" y="0"/>
            <a:ext cx="45705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4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7" descr="grail07"/>
          <p:cNvPicPr/>
          <p:nvPr/>
        </p:nvPicPr>
        <p:blipFill>
          <a:blip r:embed="rId1"/>
          <a:stretch/>
        </p:blipFill>
        <p:spPr>
          <a:xfrm>
            <a:off x="0" y="990720"/>
            <a:ext cx="9058320" cy="50101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ch Scene – Monty Python and the Holy Gr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Oval 10"/>
          <p:cNvSpPr/>
          <p:nvPr/>
        </p:nvSpPr>
        <p:spPr>
          <a:xfrm>
            <a:off x="2819520" y="0"/>
            <a:ext cx="3047760" cy="1523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man Catho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4343400" y="15238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3200400" y="2057400"/>
            <a:ext cx="2362320" cy="1295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4343400" y="33526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5334120" y="3124080"/>
            <a:ext cx="53316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 flipV="1">
            <a:off x="5562720" y="2438280"/>
            <a:ext cx="533160" cy="152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 flipH="1">
            <a:off x="3048120" y="3048120"/>
            <a:ext cx="30456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 flipH="1" flipV="1">
            <a:off x="2743200" y="2437920"/>
            <a:ext cx="4572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914400" y="1981080"/>
            <a:ext cx="190512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p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19"/>
          <p:cNvSpPr/>
          <p:nvPr/>
        </p:nvSpPr>
        <p:spPr>
          <a:xfrm>
            <a:off x="457200" y="3124080"/>
            <a:ext cx="26668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byter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20"/>
          <p:cNvSpPr/>
          <p:nvPr/>
        </p:nvSpPr>
        <p:spPr>
          <a:xfrm>
            <a:off x="5867280" y="1676520"/>
            <a:ext cx="2819520" cy="99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piscopal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1"/>
          <p:cNvSpPr/>
          <p:nvPr/>
        </p:nvSpPr>
        <p:spPr>
          <a:xfrm>
            <a:off x="5791320" y="2971800"/>
            <a:ext cx="213336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the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22"/>
          <p:cNvSpPr/>
          <p:nvPr/>
        </p:nvSpPr>
        <p:spPr>
          <a:xfrm>
            <a:off x="2971800" y="3886200"/>
            <a:ext cx="2819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urch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23"/>
          <p:cNvSpPr/>
          <p:nvPr/>
        </p:nvSpPr>
        <p:spPr>
          <a:xfrm flipH="1">
            <a:off x="2743200" y="4800600"/>
            <a:ext cx="4572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24"/>
          <p:cNvSpPr/>
          <p:nvPr/>
        </p:nvSpPr>
        <p:spPr>
          <a:xfrm>
            <a:off x="5562720" y="4800600"/>
            <a:ext cx="4572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25"/>
          <p:cNvSpPr/>
          <p:nvPr/>
        </p:nvSpPr>
        <p:spPr>
          <a:xfrm>
            <a:off x="838080" y="4952880"/>
            <a:ext cx="213372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it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26"/>
          <p:cNvSpPr/>
          <p:nvPr/>
        </p:nvSpPr>
        <p:spPr>
          <a:xfrm>
            <a:off x="5943600" y="4648320"/>
            <a:ext cx="2819520" cy="1371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arat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ilgri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urit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group of English Protestants that tried to simplify the Church of England in the 1600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228600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ssen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aw America as a place where they could worship freel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0" y="56386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s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o disa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puritanmigr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2680" y="920880"/>
            <a:ext cx="6691320" cy="59371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rsecu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veryone that refused to agree with the Church of England. Ex.) Puritans, Separatists, Cathol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10666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ecu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ist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ritans wante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or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urch of Eng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o away with Catholic traditions, such as organ music and special clothes for pri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20" y="152388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for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2819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er forms of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257800" y="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Winthrop was the leader of the Purit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ulrich_fig01b"/>
          <p:cNvPicPr/>
          <p:nvPr/>
        </p:nvPicPr>
        <p:blipFill>
          <a:blip r:embed="rId1"/>
          <a:stretch/>
        </p:blipFill>
        <p:spPr>
          <a:xfrm>
            <a:off x="0" y="0"/>
            <a:ext cx="5292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095880" y="0"/>
            <a:ext cx="304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629, the Puritans were granted a charter to form the Massachusetts Bay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USAmapM"/>
          <p:cNvPicPr/>
          <p:nvPr/>
        </p:nvPicPr>
        <p:blipFill>
          <a:blip r:embed="rId1"/>
          <a:stretch/>
        </p:blipFill>
        <p:spPr>
          <a:xfrm>
            <a:off x="0" y="0"/>
            <a:ext cx="60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lations With Native Americ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Fighting increased as the Puritans settled on Native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5" descr="firstmuster">
            <a:hlinkClick r:id="rId1"/>
          </p:cNvPr>
          <p:cNvPicPr/>
          <p:nvPr/>
        </p:nvPicPr>
        <p:blipFill>
          <a:blip r:embed="rId2"/>
          <a:srcRect l="0" t="0" r="1128" b="0"/>
          <a:stretch/>
        </p:blipFill>
        <p:spPr>
          <a:xfrm>
            <a:off x="0" y="1709640"/>
            <a:ext cx="6553080" cy="48164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 village militia muster in Massachusetts Bay Colony, circa 163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46306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ancing and games were disapproved of, and illegal on the Sabb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sbo0767l"/>
          <p:cNvPicPr/>
          <p:nvPr/>
        </p:nvPicPr>
        <p:blipFill>
          <a:blip r:embed="rId1"/>
          <a:stretch/>
        </p:blipFill>
        <p:spPr>
          <a:xfrm>
            <a:off x="3029040" y="6480"/>
            <a:ext cx="6114960" cy="68515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0" y="2514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32004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ligion and education were very impor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0" y="53352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e Puritans worked very hard at farming, fishing, and hunting in order to become success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360" y="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ard 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3048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1981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ches were blamed a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apegoa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heir problem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880" y="5410080"/>
            <a:ext cx="76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apegoa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ne that receives the blame f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elief in the d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ativ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-720" y="0"/>
            <a:ext cx="91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e Puritans wanted Massachusetts to be a "City on the Hill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43:53Z</dcterms:created>
  <dc:creator>Adam Berlin</dc:creator>
  <dc:description/>
  <dc:language>en-US</dc:language>
  <cp:lastModifiedBy>Teacher</cp:lastModifiedBy>
  <dcterms:modified xsi:type="dcterms:W3CDTF">2009-09-21T00:28:14Z</dcterms:modified>
  <cp:revision>16</cp:revision>
  <dc:subject/>
  <dc:title>Slide 1</dc:title>
</cp:coreProperties>
</file>